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CB99-6D65-4831-96AD-09A60DDA6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026B-92CD-4785-9C26-FCAB505CDB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DE64-3AE6-4030-B461-05BBEC4A19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7276-2CE7-4DF7-AFCF-486460EC7B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082A-9459-442B-BCD3-D306C2D82A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71F1-D0E7-48E7-8515-A292E53F73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F58A-A1F7-4E20-8349-9DCD5A8862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375D-68ED-477F-8BBC-33B245A8FA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E5FB-2261-4EB9-B8CE-760B1AF18E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4148-DDC6-494C-BF95-5B958EB34A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98AD-B21A-42F8-A659-70201037B4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ED39A-B4D5-4D13-8F12-ECADE0D0B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2574-57F5-4801-8000-517E679C9F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560A2-738F-456B-A45F-28A5E29222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AB004-7F9A-4354-B0C7-756B390A5B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21BA9-A9F6-4D72-BB23-B0FBCE1631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A79BD-22A4-495D-B2A5-96A2374B23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607D8-9A3C-4711-ACCE-94D8D9EB39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CCAA0-39D9-40BB-BEDE-85EA1856FA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32B9D-F933-4007-B01B-983373CA38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17219-9917-413C-B0E8-939467FAF9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5A737-10CF-4481-8A2F-AC29536F30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2B57D-6C82-42D7-8E8A-E981C3F5E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9DF9-B45C-440F-9BAE-950CB79B54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8A03B-891F-40D3-8BD8-1F656F2082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E0BF3-84E4-4D23-8B18-1EA0BE3500D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81BE0-0320-4CD6-A4FC-E601FE404F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DF856-A224-40D4-8ABD-F0C05A5CF17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2DFFD-80C5-48AB-BE70-A23A5552AA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9A110-82FA-4999-B637-6A740C8A4D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5505C-12B9-4A6A-8F16-9F3E3AFB92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1A5A5-8449-4FCE-AEA4-7B8EFDE5B7D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00246-33FE-45CD-BC7F-0473F04742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53DFF-EE05-4B5B-81E5-C010A591C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0E2F-4A03-4485-BC0A-1AC2A53E06F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616CB-5773-4A2E-8CFF-6582869BC0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1B494-FEC4-4ED1-9772-2B904D9D46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D636B-4C5C-4509-849E-A0FBD558E3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9F72-A993-4B70-A9D0-42430CAA06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CCC1-4CB1-4B8B-B46D-158C206D4F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2457-C9C4-4483-A95D-720B9E7074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CC8A-D2DE-4091-935E-4063DBBF66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FBA3-485A-4FF1-BA4C-AC3EBB1CA7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CB35-C1FE-42A4-8CEF-1B3FC1598B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DDA2-0B87-4748-BEE4-724FB0B0E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BAB6-6FD3-4304-9987-B4457F0F46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0765-B682-49A0-973C-539BEE0051E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08CC-CF46-4C47-8E72-3FF6AB5D07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4CD8-D48C-4178-A721-E5FE181F8F8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2A7D-650C-4EA4-8EBE-52CDD65DE2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1143-68A8-412B-946C-00AF858223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BCAB5-6913-4C6E-97E7-FAD2138D7A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0E726E-BDAF-4C09-9F5D-EBF465FADD5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54D7D-5951-4C1C-96DB-D5E08B269AD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F041F7-8EF4-47BB-97F3-BC40F7F0E4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6C561-03E9-4C56-92CD-D14F803BC4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D75B-E715-4E88-8468-50EEF3C81A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5CC40-9069-40E3-B5B6-DF354D4979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8BA999-73D4-44AA-8AD0-0CE341D7F6D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2A3B0A-7844-4B0D-A413-3227F0F35F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C1E1FD-5A09-4D21-BF6C-D1215F8455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A16C3-CD07-4AFA-BA25-83170572CB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ABCF3-4969-4171-B725-4329C6DB9F4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B1EB0-0A87-4AAF-9EFC-288F01DB14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E6FA9-9EAE-4DC4-BF5D-1183ACB9A2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C7FDE-330C-47B5-92A0-BED3D9F4494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35892-436A-4ED5-BB81-C4555D496D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1845-3D8C-4F3F-8164-EB42959DAE9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CF163-D9E0-4A9A-A1D3-0B8580A7D4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8FBDB-9D3F-420A-8C56-861DC3430E2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91A18-AB50-4657-8CCB-EF025BBBC41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ED3B2-114F-4B1B-AC1C-0EF3415D2B5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4C93C-0D55-4F3D-ADDE-F5BEDAC50A4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0C13F-8E35-4447-AC82-333ED401A00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1B05F-C162-44E4-99A4-C414AA34AC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29CAF-1859-4211-809A-6CB568BA5B8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3C376-4329-45B4-9807-369B668357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00779-79AD-4E41-B1F8-B8AD9733B9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F539-8502-4B8F-B85D-50CE02C7CC1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FBE8-B574-4507-B04E-1871B7DA6F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045F-E07C-4A47-BF02-2918109F520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85E3E-33F2-4DD9-81AE-9A9CF025151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C08B8-3B94-4AD5-A471-D7051137490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649D-9C37-4F7F-A352-E37D3B76BF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06AE-EDB9-4874-9CFC-783DCF019A4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0ECE-C58A-4E1F-8934-FB2C752166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9517-5513-453B-8B37-215A29FC0EE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FDEB-C050-4A49-AAEB-3154B6E59B2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A3BC-AA39-40D5-B592-8D8B9FA2A6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E44C-36DB-47F5-AFD3-E017DC9DADD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F787-9346-44F1-A81F-3721EB76FF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2BF3B-2A74-4747-BC91-82D75E29FEF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0D683-3FA6-44F6-84F6-0928C12171B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5DEC9-E3C0-4061-9004-A71F046C3B5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0D94C8-E18A-4CBA-974C-79D65ECDDF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617E9-BABB-4346-9E14-5EB83EAD323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8D368-EEF4-40CB-8CB9-9341F9F96A4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10B6A-4211-4AA0-827E-C36FD8133A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78B03-A9B9-4139-99FC-8F89166C25B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566540-6F44-4981-A600-4ED838F491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9B83-6A97-420D-8A4C-0A3C8C6B7A0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EE9C0-733B-477D-AB9A-D6CDFCEC9B2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24D792-C27E-49BF-9815-E2114E67BE1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8C987-AD5E-4046-986F-1EDA277160C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B9CFA-CC3F-4065-81E2-9D437B409CB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FD9AC-217A-456C-9DB7-509174E628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E624F-FA80-442D-8F78-30E24C24372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54123-3CD4-4B39-815A-3F7BE480FC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A1FB2-5C52-47D3-9A79-A4044A771D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3F34B-584C-46D2-8457-D4429976B8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F93A9-6A12-4F04-9EB1-3415CCA0F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66E0-7893-49B3-9348-B1780B751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47C0-2840-428E-B8F7-D64AECADEA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C665A-BDF0-4706-A30A-A7FEE93571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1349F-80AB-4A52-9E98-DE1ED048D88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DC7EE-5474-426C-9822-92E0519998A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D56D4-DB6D-4C7E-AC37-63DACD8E73F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C1FA8-7793-485B-AD02-886C6D04F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977C-3EBF-4722-97C2-88F8B75504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9F73-4300-439C-84D5-0AB73AC49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7CD2-471C-410D-93D5-35E4B5DB1F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02AF-A4E2-4167-AD96-40153002EA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602-F264-412D-A026-D5EDBDDAE7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679-6ADB-4555-8B4A-89FDFB094E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972-D61B-488C-9782-832E0F8D98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F6F-7930-43EB-9A7F-8D78DDB1D2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EA6-F854-4A13-B8D7-A924F98C5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86F5-E4AE-4AAF-8E9F-DAD0CA1093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526-C5B2-446A-8200-CAA2F4982A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4A3-EC12-4417-ABF9-629A25DC49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169-86EF-48EB-9FC1-623CD88BFC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126-95D8-4443-B298-7740BD012A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9A1-A3EA-4F6C-9031-E4276D32ED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044-4DF2-4CC1-899A-A2A5A1B955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E54-C8D0-492D-A12C-B8E71E9BCA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C8A0-8205-423C-B7BA-7F94D52AA0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B9D07-D358-4149-91B1-45E3860A44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79ADC-C100-4CD3-BB60-2C03F4FC3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251D-E598-49FD-8AD6-714C107477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15630-0F00-4ED6-879F-8E58F8CA4F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02B2E-CC09-461A-A273-76AD0224B4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0F6C-8255-40E6-AB57-9D02A78EE7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7C5C3-576B-4067-97CB-129BA756C9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8026F-3FDD-4547-9948-8F2EE28F54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9F00-18BE-4346-A24C-8379D41B5F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D8EF0-64C3-4BE9-B02D-21DBEB07ED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13078-9DB6-4859-BB2A-664D981DA2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1E7F-83D5-483F-B12F-A2DEF38241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5954B-6AD5-49C2-B3B2-BA5FDE864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145B-68B2-4BBE-A031-E60F442567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1A0E-B66D-4FC6-B65A-75C3608419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D377E-D8EE-4359-B49A-C32E77F592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C1D08-1980-47AC-AF80-26B841B879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8670F-FF9F-4A4B-A47E-7FD1262CF2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54449-CB27-44AF-B31F-C6FF6F7B82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45C66-823A-46AC-8146-DC33198DF5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32D24-2FD9-4ED2-BE41-C5CF87CBDA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CC31D-C7B8-4C81-9735-C93ADD9F7F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5F1A-89F7-40E4-B417-500538E0B5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8F4D-467A-4539-8535-24D725D9C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81E1-1EE0-498A-93CB-B4C7C63254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942E-160D-476D-988B-C97678FE3F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B94D-BDC3-46FF-8EEF-A40272D511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A655-79D1-4628-9614-DF57AFA295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118F-5571-436E-86B0-B7452565EE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488-32D7-4957-9758-A6EF60970C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3B2-9D1C-40CC-AB91-A941631609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8C7E-9186-498E-9665-96FA6B44CF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A5BD-3762-4F9C-B396-F2BD9B3C04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382B-4EE5-473B-B9C4-7BF49610D4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B31-12F4-4502-A002-ACD1D0DD1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B7E4-3A13-4A32-8F10-1C62B70B67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DA8-3E7B-4C19-B6DC-71CD2DBD72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B28-FD85-480B-ACCF-7B666F5FC9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DC4F-C960-4F16-9956-D3243445AE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D4986-5D8E-4D1B-B093-14D5A4F55F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3B4C8-6806-40F7-887D-88BB3FC841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B6ECB-7042-41EC-815D-F1BB33A6EA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AE3AD-9D42-4121-8BBF-E07DA74220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0D6C7-851D-46B9-9F2C-9F950C77E4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270F5-C884-4CC3-8AEB-3D2D44BE15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84D07-F177-4C0F-B8AD-3F3CCF47E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03B7-D696-42B6-B04B-5119211E9E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D7056-1808-4E6F-8790-5C602BCBE8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1D3E8-0520-47B9-8D4F-7DF042071C5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5528AE-6C7C-4F9D-9C7C-3BEBC10CA7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5B33B-0F85-4659-BF43-7F15797AC5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3335D-2C15-4814-BCD8-08CE91DA07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873FA-6FA1-4FA6-B63E-83F5083D13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D2C13-4FD9-44D2-8218-B6A2B28CCC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935B5-3B9C-41C1-9D7C-45F6651885A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18DA0-2CCF-4BAE-BD06-2A3DFDF05F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B73AF-08C3-4C38-BC98-B7BB007F2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26C5-33F0-4D57-8DCB-041154D303D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720" y="623880"/>
            <a:ext cx="65880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F78D4-7C5E-4CB4-A8E9-140E1BAC75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AD12D-E717-47FE-A302-AA7CD1A134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A72FC-367A-41B7-AB15-17181F2566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E4732-FD98-43B1-AED6-469A64876A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3280" y="4162680"/>
            <a:ext cx="658944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3AE43-6C69-4196-B7E4-FA8BA35339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080" y="213372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32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080" y="4162680"/>
            <a:ext cx="3215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E4BE5-837C-47B5-9A90-AAE3230778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399000" y="213372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328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32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399000" y="4162680"/>
            <a:ext cx="212148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E6A0-5D77-4777-8F0D-D49EB788AC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5CF6-782C-49B5-8AE9-D8A3D8CDC6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B40E-EC3F-460E-8F18-CA2C5943A4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772B-6E61-4DF3-BC29-1C4372D09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1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14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sldNum" idx="1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C8E045-D0E7-4ED6-AB99-3A103072EA09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621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634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0" y="49078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10"/>
          </p:nvPr>
        </p:nvSpPr>
        <p:spPr>
          <a:xfrm>
            <a:off x="510840" y="49831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14E428-5853-4E28-B03A-3605C42E18E2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690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703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11"/>
          </p:nvPr>
        </p:nvSpPr>
        <p:spPr>
          <a:xfrm>
            <a:off x="510840" y="324468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CCB39B-44FC-44B7-A57E-30E9059C141B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759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772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Num" idx="12"/>
          </p:nvPr>
        </p:nvSpPr>
        <p:spPr>
          <a:xfrm>
            <a:off x="510840" y="324468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221928-38EC-43C9-A64C-4B0B48FE8E0C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830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843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0" y="49078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13"/>
          </p:nvPr>
        </p:nvSpPr>
        <p:spPr>
          <a:xfrm>
            <a:off x="510840" y="49831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7E91B-D0FB-4446-921D-8943D11A94FC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899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912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0" y="49078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sldNum" idx="14"/>
          </p:nvPr>
        </p:nvSpPr>
        <p:spPr>
          <a:xfrm>
            <a:off x="510840" y="49831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E3887A-2EEE-464D-972D-8B9F7EF9E738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970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983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49078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sldNum" idx="15"/>
          </p:nvPr>
        </p:nvSpPr>
        <p:spPr>
          <a:xfrm>
            <a:off x="510840" y="49831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0F6B82-4762-4F1A-865E-DBC72BEE0635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1039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1052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16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F627C-7277-4A13-9DE3-BB59F4762CA4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1108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1121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sldNum" idx="17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2B299B-D972-44B2-9D44-51FFEFA6E8A2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69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82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2"/>
          </p:nvPr>
        </p:nvSpPr>
        <p:spPr>
          <a:xfrm>
            <a:off x="423360" y="4529160"/>
            <a:ext cx="582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E68CD-5F69-4403-8A31-533A80EA4579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138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151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D6E98F-D5DE-4CA7-BCEF-4E97A1412CDC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207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220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4"/>
          </p:nvPr>
        </p:nvSpPr>
        <p:spPr>
          <a:xfrm>
            <a:off x="510840" y="324468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5A8CD7-6E7D-433A-99CC-97AAEBB954E0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276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289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5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B75948-3524-4532-8FF6-F68F026926A6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345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358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C490CC-41C1-4DDE-B65C-BE0E66C9C1E8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414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427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7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F13BBB-5D84-47D2-B044-63001592166A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483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496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8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11D768-191E-4E6A-84F3-A97D5371753E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228600"/>
            <a:ext cx="1979640" cy="6637320"/>
            <a:chOff x="0" y="228600"/>
            <a:chExt cx="1979640" cy="6637320"/>
          </a:xfrm>
        </p:grpSpPr>
        <p:sp>
          <p:nvSpPr>
            <p:cNvPr id="552" name=""/>
            <p:cNvSpPr/>
            <p:nvPr/>
          </p:nvSpPr>
          <p:spPr>
            <a:xfrm>
              <a:off x="0" y="2575080"/>
              <a:ext cx="6840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8920" y="3156120"/>
              <a:ext cx="44748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520" y="5446800"/>
              <a:ext cx="422280" cy="14191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6720" y="6504120"/>
              <a:ext cx="11736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40" y="3200400"/>
              <a:ext cx="56988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40" y="228600"/>
              <a:ext cx="7164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000" y="2944800"/>
              <a:ext cx="5220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4960" y="5478480"/>
              <a:ext cx="130320" cy="102384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8200" y="1398600"/>
              <a:ext cx="144144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1520" y="6529320"/>
              <a:ext cx="11088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4960" y="5359320"/>
              <a:ext cx="23760" cy="2206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0400" y="6245280"/>
              <a:ext cx="16380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0520" y="0"/>
            <a:ext cx="1951200" cy="6851520"/>
            <a:chOff x="20520" y="0"/>
            <a:chExt cx="1951200" cy="6851520"/>
          </a:xfrm>
        </p:grpSpPr>
        <p:sp>
          <p:nvSpPr>
            <p:cNvPr id="565" name=""/>
            <p:cNvSpPr/>
            <p:nvPr/>
          </p:nvSpPr>
          <p:spPr>
            <a:xfrm>
              <a:off x="20520" y="0"/>
              <a:ext cx="40824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3960" y="4316400"/>
              <a:ext cx="34920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1960" y="5862600"/>
              <a:ext cx="35532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200" y="4363920"/>
              <a:ext cx="4557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5920" y="1289160"/>
              <a:ext cx="1425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19080" y="6572160"/>
              <a:ext cx="10980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4360" y="4106880"/>
              <a:ext cx="666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4960" y="3146400"/>
              <a:ext cx="116676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87400" y="6600960"/>
              <a:ext cx="9828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4960" y="5897520"/>
              <a:ext cx="11268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4960" y="5772240"/>
              <a:ext cx="30240" cy="2268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1960" y="6323040"/>
              <a:ext cx="17280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720" y="62388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944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4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5AA9E-83EC-4C04-A694-C1709A3BCA98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2444760" y="841320"/>
            <a:ext cx="6450120" cy="39387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3"/>
          <a:stretch/>
        </p:blipFill>
        <p:spPr>
          <a:xfrm>
            <a:off x="1620720" y="4803840"/>
            <a:ext cx="7078680" cy="198108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/>
          <p:cNvPicPr/>
          <p:nvPr/>
        </p:nvPicPr>
        <p:blipFill>
          <a:blip r:embed="rId4"/>
          <a:stretch/>
        </p:blipFill>
        <p:spPr>
          <a:xfrm>
            <a:off x="152280" y="0"/>
            <a:ext cx="3694320" cy="12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3"/>
          <a:stretch/>
        </p:blipFill>
        <p:spPr>
          <a:xfrm>
            <a:off x="1901880" y="73080"/>
            <a:ext cx="6808680" cy="195084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4"/>
          <a:stretch/>
        </p:blipFill>
        <p:spPr>
          <a:xfrm>
            <a:off x="1938240" y="2133720"/>
            <a:ext cx="6608880" cy="378612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457200" y="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1938240" y="615960"/>
            <a:ext cx="6761160" cy="12985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3"/>
          <a:stretch/>
        </p:blipFill>
        <p:spPr>
          <a:xfrm>
            <a:off x="1938240" y="2127240"/>
            <a:ext cx="66088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1444680" y="378000"/>
            <a:ext cx="7199280" cy="132840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1938240" y="1755720"/>
            <a:ext cx="661536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664080" cy="243828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3"/>
          <a:stretch/>
        </p:blipFill>
        <p:spPr>
          <a:xfrm>
            <a:off x="1944720" y="530280"/>
            <a:ext cx="65898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2054160" y="457200"/>
            <a:ext cx="6797880" cy="616896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152280" y="1295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944720" y="623880"/>
            <a:ext cx="65898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734d10"/>
                </a:solidFill>
                <a:latin typeface="Century Gothic"/>
                <a:ea typeface="Microsoft YaHei"/>
              </a:rPr>
              <a:t>Якісні показни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1944720" y="1517760"/>
            <a:ext cx="6900840" cy="51274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696080" y="54212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450720" y="304920"/>
            <a:ext cx="8364600" cy="57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2"/>
          <a:stretch/>
        </p:blipFill>
        <p:spPr>
          <a:xfrm>
            <a:off x="1938240" y="1060560"/>
            <a:ext cx="6639120" cy="486396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144756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1922760" cy="114300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3"/>
          <a:stretch/>
        </p:blipFill>
        <p:spPr>
          <a:xfrm>
            <a:off x="1938240" y="146160"/>
            <a:ext cx="6615360" cy="19508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4"/>
          <a:stretch/>
        </p:blipFill>
        <p:spPr>
          <a:xfrm>
            <a:off x="1219320" y="2133720"/>
            <a:ext cx="7802280" cy="4498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57200" y="76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nodeType="clickEffect" fill="hold">
                      <p:stCondLst>
                        <p:cond delay="0"/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1938240" y="573120"/>
            <a:ext cx="6608880" cy="145728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1878120" y="2133720"/>
            <a:ext cx="667548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444680" y="304920"/>
            <a:ext cx="7254720" cy="365760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3"/>
          <a:stretch/>
        </p:blipFill>
        <p:spPr>
          <a:xfrm>
            <a:off x="4224240" y="3846600"/>
            <a:ext cx="404820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1676520" y="536400"/>
            <a:ext cx="7242120" cy="594360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76320" y="279720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" descr=""/>
          <p:cNvPicPr/>
          <p:nvPr/>
        </p:nvPicPr>
        <p:blipFill>
          <a:blip r:embed="rId2"/>
          <a:stretch/>
        </p:blipFill>
        <p:spPr>
          <a:xfrm>
            <a:off x="1219320" y="689040"/>
            <a:ext cx="7772400" cy="594360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3"/>
          <a:stretch/>
        </p:blipFill>
        <p:spPr>
          <a:xfrm>
            <a:off x="2017800" y="4552920"/>
            <a:ext cx="2378160" cy="237168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5638680" y="380880"/>
            <a:ext cx="352908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6931080" cy="60962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838080" y="3962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3"/>
          <a:stretch/>
        </p:blipFill>
        <p:spPr>
          <a:xfrm>
            <a:off x="1600200" y="93600"/>
            <a:ext cx="1752480" cy="20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>
            <a:off x="1143000" y="21337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"/>
          <p:cNvSpPr/>
          <p:nvPr/>
        </p:nvSpPr>
        <p:spPr>
          <a:xfrm>
            <a:off x="1143000" y="220968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"/>
          <p:cNvSpPr/>
          <p:nvPr/>
        </p:nvSpPr>
        <p:spPr>
          <a:xfrm>
            <a:off x="1143000" y="57913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"/>
          <p:cNvSpPr/>
          <p:nvPr/>
        </p:nvSpPr>
        <p:spPr>
          <a:xfrm>
            <a:off x="1143000" y="21337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"/>
          <p:cNvSpPr/>
          <p:nvPr/>
        </p:nvSpPr>
        <p:spPr>
          <a:xfrm>
            <a:off x="1143000" y="2743200"/>
            <a:ext cx="579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"/>
          <p:cNvSpPr/>
          <p:nvPr/>
        </p:nvSpPr>
        <p:spPr>
          <a:xfrm>
            <a:off x="6934320" y="213372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"/>
          <p:cNvSpPr/>
          <p:nvPr/>
        </p:nvSpPr>
        <p:spPr>
          <a:xfrm>
            <a:off x="4114800" y="274320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"/>
          <p:cNvSpPr/>
          <p:nvPr/>
        </p:nvSpPr>
        <p:spPr>
          <a:xfrm>
            <a:off x="1143000" y="3505320"/>
            <a:ext cx="579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"/>
          <p:cNvSpPr/>
          <p:nvPr/>
        </p:nvSpPr>
        <p:spPr>
          <a:xfrm>
            <a:off x="2590920" y="3505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411480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"/>
          <p:cNvSpPr/>
          <p:nvPr/>
        </p:nvSpPr>
        <p:spPr>
          <a:xfrm>
            <a:off x="1143000" y="457200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"/>
          <p:cNvSpPr/>
          <p:nvPr/>
        </p:nvSpPr>
        <p:spPr>
          <a:xfrm>
            <a:off x="2133720" y="4572000"/>
            <a:ext cx="1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"/>
          <p:cNvSpPr/>
          <p:nvPr/>
        </p:nvSpPr>
        <p:spPr>
          <a:xfrm>
            <a:off x="3200400" y="4572000"/>
            <a:ext cx="1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"/>
          <p:cNvSpPr/>
          <p:nvPr/>
        </p:nvSpPr>
        <p:spPr>
          <a:xfrm>
            <a:off x="5410080" y="35053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"/>
          <p:cNvSpPr/>
          <p:nvPr/>
        </p:nvSpPr>
        <p:spPr>
          <a:xfrm>
            <a:off x="8458200" y="213372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"/>
          <p:cNvSpPr/>
          <p:nvPr/>
        </p:nvSpPr>
        <p:spPr>
          <a:xfrm>
            <a:off x="7010280" y="2743200"/>
            <a:ext cx="1371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865e37"/>
                </a:solidFill>
                <a:latin typeface="Verdana"/>
              </a:rPr>
              <a:t>Надзвичайні поді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"/>
          <p:cNvSpPr/>
          <p:nvPr/>
        </p:nvSpPr>
        <p:spPr>
          <a:xfrm>
            <a:off x="5486400" y="36576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865e37"/>
                </a:solidFill>
                <a:latin typeface="Verdana"/>
              </a:rPr>
              <a:t>Інвестицій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373392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865e37"/>
                </a:solidFill>
                <a:latin typeface="Verdana"/>
              </a:rPr>
              <a:t>Фінанс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"/>
          <p:cNvSpPr/>
          <p:nvPr/>
        </p:nvSpPr>
        <p:spPr>
          <a:xfrm>
            <a:off x="4191120" y="2895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865e37"/>
                </a:solidFill>
                <a:latin typeface="Verdana"/>
              </a:rPr>
              <a:t>Інша діяльні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"/>
          <p:cNvSpPr/>
          <p:nvPr/>
        </p:nvSpPr>
        <p:spPr>
          <a:xfrm>
            <a:off x="1371600" y="2209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865e37"/>
                </a:solidFill>
                <a:latin typeface="Verdana"/>
              </a:rPr>
              <a:t>Звичайна діяльні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28954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865e37"/>
                </a:solidFill>
                <a:latin typeface="Verdana"/>
              </a:rPr>
              <a:t>Операційна діяльні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"/>
          <p:cNvSpPr/>
          <p:nvPr/>
        </p:nvSpPr>
        <p:spPr>
          <a:xfrm>
            <a:off x="1143000" y="3505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865e37"/>
                </a:solidFill>
                <a:latin typeface="Verdana"/>
              </a:rPr>
              <a:t>Ос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"/>
          <p:cNvSpPr/>
          <p:nvPr/>
        </p:nvSpPr>
        <p:spPr>
          <a:xfrm>
            <a:off x="2590920" y="3581280"/>
            <a:ext cx="144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865e37"/>
                </a:solidFill>
                <a:latin typeface="Verdana"/>
              </a:rPr>
              <a:t>Інша операцій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962520"/>
            <a:ext cx="144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865e37"/>
                </a:solidFill>
                <a:latin typeface="Verdana"/>
              </a:rPr>
              <a:t>Функції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"/>
          <p:cNvSpPr/>
          <p:nvPr/>
        </p:nvSpPr>
        <p:spPr>
          <a:xfrm>
            <a:off x="1143000" y="472428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865e37"/>
                </a:solidFill>
                <a:latin typeface="Verdana"/>
              </a:rPr>
              <a:t>виробниц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"/>
          <p:cNvSpPr/>
          <p:nvPr/>
        </p:nvSpPr>
        <p:spPr>
          <a:xfrm>
            <a:off x="2133720" y="47242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865e37"/>
                </a:solidFill>
                <a:latin typeface="Verdana"/>
              </a:rPr>
              <a:t>управлінн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"/>
          <p:cNvSpPr/>
          <p:nvPr/>
        </p:nvSpPr>
        <p:spPr>
          <a:xfrm>
            <a:off x="3276720" y="4724280"/>
            <a:ext cx="761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65e37"/>
                </a:solidFill>
                <a:latin typeface="Verdana"/>
              </a:rPr>
              <a:t>збу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1573200" y="835200"/>
            <a:ext cx="7126200" cy="5578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3"/>
          <a:stretch/>
        </p:blipFill>
        <p:spPr>
          <a:xfrm>
            <a:off x="5297400" y="1085760"/>
            <a:ext cx="2189160" cy="17906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4"/>
          <a:stretch/>
        </p:blipFill>
        <p:spPr>
          <a:xfrm>
            <a:off x="115920" y="390204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438120" y="378000"/>
            <a:ext cx="8309160" cy="11268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3"/>
          <a:stretch/>
        </p:blipFill>
        <p:spPr>
          <a:xfrm>
            <a:off x="1298520" y="1603440"/>
            <a:ext cx="762012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" descr=""/>
          <p:cNvPicPr/>
          <p:nvPr/>
        </p:nvPicPr>
        <p:blipFill>
          <a:blip r:embed="rId2"/>
          <a:stretch/>
        </p:blipFill>
        <p:spPr>
          <a:xfrm>
            <a:off x="115920" y="1238400"/>
            <a:ext cx="3700440" cy="238896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/>
          <p:nvPr/>
        </p:nvSpPr>
        <p:spPr>
          <a:xfrm>
            <a:off x="1944720" y="623880"/>
            <a:ext cx="65898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7c240b"/>
                </a:solidFill>
                <a:latin typeface="Century Gothic"/>
                <a:ea typeface="Microsoft YaHei"/>
              </a:rPr>
              <a:t>Операційна діяльні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2286000" y="1444680"/>
            <a:ext cx="6699240" cy="52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1298520" y="444600"/>
            <a:ext cx="738828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562480" cy="180000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993600" y="450720"/>
            <a:ext cx="7918560" cy="618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6:22:06Z</dcterms:created>
  <dc:creator>one</dc:creator>
  <dc:description/>
  <dc:language>en-US</dc:language>
  <cp:lastModifiedBy>Ольга Іванівна</cp:lastModifiedBy>
  <dcterms:modified xsi:type="dcterms:W3CDTF">2019-10-23T09:13:0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